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wmf" ContentType="image/x-wmf"/>
  <Override PartName="/ppt/media/image23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media/image33.png" ContentType="image/png"/>
  <Override PartName="/ppt/media/image13.png" ContentType="image/png"/>
  <Override PartName="/ppt/media/image9.png" ContentType="image/png"/>
  <Override PartName="/ppt/media/image28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wmf" ContentType="image/x-wmf"/>
  <Override PartName="/ppt/media/image26.wmf" ContentType="image/x-wmf"/>
  <Override PartName="/ppt/media/image14.wmf" ContentType="image/x-wmf"/>
  <Override PartName="/ppt/media/image31.png" ContentType="image/png"/>
  <Override PartName="/ppt/media/image1.png" ContentType="image/png"/>
  <Override PartName="/ppt/media/image32.wmf" ContentType="image/x-wmf"/>
  <Override PartName="/ppt/media/image29.png" ContentType="image/png"/>
  <Override PartName="/ppt/media/image2.wmf" ContentType="image/x-wmf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389D-7920-4390-B40F-70BC684A2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976A-40C8-4BA5-A963-47F710E1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6E6F-7CA3-4B86-A45C-6A744DE27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DE57-6743-43C0-B7BD-26ED16EF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E121-8AF3-4450-9E68-905363E8B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6965-3167-4164-BBDF-931CF0F03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BACC-701F-43B1-866F-6F99D4DB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5F7-37C8-4D7A-B201-3D104DB9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53A0-8B73-4577-B64A-88ACF186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2DEC-4E06-4EFA-8AE0-78F0B6695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74BE-A99B-4946-BB8C-46408C7A0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3284-2204-48B3-8F3A-50885DFCC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2B9D-3270-4E23-BEF4-67B747893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28A3-D128-47BA-9165-40ACAC00C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B14C-8A41-4847-95E8-66E8BDCF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838-B85D-455E-AA85-FA562357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086-AC74-409D-97B2-676B2E2E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A35-DCE0-43A1-93AC-34F0A087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FA5-A67E-4CF8-A34A-5707649C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81A-E42C-450C-A23C-8434AB15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4493-D55B-4AEA-913C-C34A46AC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E4C-E9BD-4553-9457-6A3E77BF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BE1-80BA-4E43-8C5B-1DEE9BBD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39A-93F6-4295-868C-316936C5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3E6-4390-476F-8D2D-296B9798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BDA-E196-405C-A0BF-4807C59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E0FD-F58B-4C9E-AB5A-BAF08A04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9C1A-38C1-40F9-9715-F6A9B6C35F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8" descr=""/>
          <p:cNvPicPr/>
          <p:nvPr/>
        </p:nvPicPr>
        <p:blipFill>
          <a:blip r:embed="rId1"/>
          <a:stretch/>
        </p:blipFill>
        <p:spPr>
          <a:xfrm>
            <a:off x="1652760" y="2176560"/>
            <a:ext cx="5729040" cy="2577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:\Users\Rich\Documents\eslkidsworld.com\clip art\Food &amp; Drink\Fruits (A - B)\Apple 47.wmf"/>
          <p:cNvPicPr/>
          <p:nvPr/>
        </p:nvPicPr>
        <p:blipFill>
          <a:blip r:embed="rId2"/>
          <a:stretch/>
        </p:blipFill>
        <p:spPr>
          <a:xfrm>
            <a:off x="406440" y="339840"/>
            <a:ext cx="1879560" cy="214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Users\Rich\Documents\eslkidsworld.com\clip art\Food &amp; Drink\Fruits (A - B)\Banana 03.wmf"/>
          <p:cNvPicPr/>
          <p:nvPr/>
        </p:nvPicPr>
        <p:blipFill>
          <a:blip r:embed="rId3"/>
          <a:stretch/>
        </p:blipFill>
        <p:spPr>
          <a:xfrm rot="2044200">
            <a:off x="6262200" y="756720"/>
            <a:ext cx="2419560" cy="162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6880320" y="4522680"/>
            <a:ext cx="1805040" cy="203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C:\Users\Rich\Documents\eslkidsworld.com\clip art\Food &amp; Drink\Fruits (C - I)\Grapes 19.wmf"/>
          <p:cNvPicPr/>
          <p:nvPr/>
        </p:nvPicPr>
        <p:blipFill>
          <a:blip r:embed="rId5"/>
          <a:stretch/>
        </p:blipFill>
        <p:spPr>
          <a:xfrm>
            <a:off x="174600" y="4327560"/>
            <a:ext cx="21574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9" descr=""/>
          <p:cNvPicPr/>
          <p:nvPr/>
        </p:nvPicPr>
        <p:blipFill>
          <a:blip r:embed="rId1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9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Rich\Documents\eslkidsworld.com\clip art\Food &amp; Drink\Fruits (J - Pe)\Orange 19.wmf"/>
          <p:cNvPicPr/>
          <p:nvPr/>
        </p:nvPicPr>
        <p:blipFill>
          <a:blip r:embed="rId4"/>
          <a:stretch/>
        </p:blipFill>
        <p:spPr>
          <a:xfrm>
            <a:off x="3498840" y="1609560"/>
            <a:ext cx="47545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9" descr=""/>
          <p:cNvPicPr/>
          <p:nvPr/>
        </p:nvPicPr>
        <p:blipFill>
          <a:blip r:embed="rId1"/>
          <a:stretch/>
        </p:blipFill>
        <p:spPr>
          <a:xfrm>
            <a:off x="2743200" y="4041720"/>
            <a:ext cx="5924520" cy="2578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3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Rich\Documents\eslkidsworld.com\clip art\Food &amp; Drink\Fruits (J - Pe)\Peaches 02.wmf"/>
          <p:cNvPicPr/>
          <p:nvPr/>
        </p:nvPicPr>
        <p:blipFill>
          <a:blip r:embed="rId4"/>
          <a:stretch/>
        </p:blipFill>
        <p:spPr>
          <a:xfrm>
            <a:off x="3855960" y="1471680"/>
            <a:ext cx="343548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9" descr=""/>
          <p:cNvPicPr/>
          <p:nvPr/>
        </p:nvPicPr>
        <p:blipFill>
          <a:blip r:embed="rId1"/>
          <a:stretch/>
        </p:blipFill>
        <p:spPr>
          <a:xfrm>
            <a:off x="1762200" y="4041720"/>
            <a:ext cx="7388280" cy="2578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97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Rich\Documents\eslkidsworld.com\clip art\Food &amp; Drink\Fruits (J - Pe)\Pear 35.wmf"/>
          <p:cNvPicPr/>
          <p:nvPr/>
        </p:nvPicPr>
        <p:blipFill>
          <a:blip r:embed="rId4"/>
          <a:stretch/>
        </p:blipFill>
        <p:spPr>
          <a:xfrm>
            <a:off x="4149720" y="1473120"/>
            <a:ext cx="3446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9" descr=""/>
          <p:cNvPicPr/>
          <p:nvPr/>
        </p:nvPicPr>
        <p:blipFill>
          <a:blip r:embed="rId1"/>
          <a:stretch/>
        </p:blipFill>
        <p:spPr>
          <a:xfrm>
            <a:off x="1219320" y="4059360"/>
            <a:ext cx="8315280" cy="237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1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C:\Users\Rich\Documents\eslkidsworld.com\clip art\Food &amp; Drink\Fruits (Pi - Z)\Pineapple 22.wmf"/>
          <p:cNvPicPr/>
          <p:nvPr/>
        </p:nvPicPr>
        <p:blipFill>
          <a:blip r:embed="rId4"/>
          <a:stretch/>
        </p:blipFill>
        <p:spPr>
          <a:xfrm rot="3982800">
            <a:off x="4686840" y="907200"/>
            <a:ext cx="1966680" cy="4133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1500120" y="605952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9" descr=""/>
          <p:cNvPicPr/>
          <p:nvPr/>
        </p:nvPicPr>
        <p:blipFill>
          <a:blip r:embed="rId1"/>
          <a:stretch/>
        </p:blipFill>
        <p:spPr>
          <a:xfrm>
            <a:off x="1700280" y="4102200"/>
            <a:ext cx="7705800" cy="19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106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Rich\Documents\eslkidsworld.com\clip art\Food &amp; Drink\Fruits (Pi - Z)\Watermelon 35.wmf"/>
          <p:cNvPicPr/>
          <p:nvPr/>
        </p:nvPicPr>
        <p:blipFill>
          <a:blip r:embed="rId4"/>
          <a:stretch/>
        </p:blipFill>
        <p:spPr>
          <a:xfrm>
            <a:off x="3162240" y="1673280"/>
            <a:ext cx="4672080" cy="28544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6729480" y="488952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415800" y="347760"/>
            <a:ext cx="79948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1768320" y="2798640"/>
            <a:ext cx="548028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Rich\Documents\eslkidsworld.com\clip art\Food &amp; Drink\Fruits (A - B)\Apple 47.wmf"/>
          <p:cNvPicPr/>
          <p:nvPr/>
        </p:nvPicPr>
        <p:blipFill>
          <a:blip r:embed="rId3"/>
          <a:stretch/>
        </p:blipFill>
        <p:spPr>
          <a:xfrm>
            <a:off x="4011480" y="1611360"/>
            <a:ext cx="3095640" cy="261468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9" descr=""/>
          <p:cNvPicPr/>
          <p:nvPr/>
        </p:nvPicPr>
        <p:blipFill>
          <a:blip r:embed="rId4"/>
          <a:stretch/>
        </p:blipFill>
        <p:spPr>
          <a:xfrm>
            <a:off x="2809800" y="4041720"/>
            <a:ext cx="573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58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9" descr=""/>
          <p:cNvPicPr/>
          <p:nvPr/>
        </p:nvPicPr>
        <p:blipFill>
          <a:blip r:embed="rId3"/>
          <a:stretch/>
        </p:blipFill>
        <p:spPr>
          <a:xfrm>
            <a:off x="2139840" y="4041720"/>
            <a:ext cx="6838920" cy="257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Users\Rich\Documents\eslkidsworld.com\clip art\Food &amp; Drink\Fruits (A - B)\Banana 03.wmf"/>
          <p:cNvPicPr/>
          <p:nvPr/>
        </p:nvPicPr>
        <p:blipFill>
          <a:blip r:embed="rId4"/>
          <a:stretch/>
        </p:blipFill>
        <p:spPr>
          <a:xfrm rot="2044200">
            <a:off x="3836880" y="2172960"/>
            <a:ext cx="3259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2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9" descr=""/>
          <p:cNvPicPr/>
          <p:nvPr/>
        </p:nvPicPr>
        <p:blipFill>
          <a:blip r:embed="rId3"/>
          <a:stretch/>
        </p:blipFill>
        <p:spPr>
          <a:xfrm>
            <a:off x="1474920" y="4041720"/>
            <a:ext cx="7950240" cy="257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Users\Rich\Documents\eslkidsworld.com\clip art\Food &amp; Drink\Fruits (C - I)\Grapes 19.wmf"/>
          <p:cNvPicPr/>
          <p:nvPr/>
        </p:nvPicPr>
        <p:blipFill>
          <a:blip r:embed="rId4"/>
          <a:stretch/>
        </p:blipFill>
        <p:spPr>
          <a:xfrm>
            <a:off x="2535120" y="1432080"/>
            <a:ext cx="59263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66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9" descr=""/>
          <p:cNvPicPr/>
          <p:nvPr/>
        </p:nvPicPr>
        <p:blipFill>
          <a:blip r:embed="rId3"/>
          <a:stretch/>
        </p:blipFill>
        <p:spPr>
          <a:xfrm>
            <a:off x="1700280" y="4041720"/>
            <a:ext cx="7450200" cy="257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C:\Users\Rich\Documents\eslkidsworld.com\clip art\Food &amp; Drink\Fruits (C - I)\Cherries 27.wmf"/>
          <p:cNvPicPr/>
          <p:nvPr/>
        </p:nvPicPr>
        <p:blipFill>
          <a:blip r:embed="rId4"/>
          <a:stretch/>
        </p:blipFill>
        <p:spPr>
          <a:xfrm>
            <a:off x="3681360" y="1633680"/>
            <a:ext cx="353700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0" y="685800"/>
            <a:ext cx="1681200" cy="4592520"/>
          </a:xfrm>
          <a:prstGeom prst="rect">
            <a:avLst/>
          </a:prstGeom>
          <a:ln w="0">
            <a:noFill/>
          </a:ln>
        </p:spPr>
      </p:pic>
      <p:pic>
        <p:nvPicPr>
          <p:cNvPr id="70" name="Oval Callout 7" descr=""/>
          <p:cNvPicPr/>
          <p:nvPr/>
        </p:nvPicPr>
        <p:blipFill>
          <a:blip r:embed="rId2"/>
          <a:stretch/>
        </p:blipFill>
        <p:spPr>
          <a:xfrm>
            <a:off x="1036800" y="212760"/>
            <a:ext cx="7954920" cy="168912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9" descr=""/>
          <p:cNvPicPr/>
          <p:nvPr/>
        </p:nvPicPr>
        <p:blipFill>
          <a:blip r:embed="rId3"/>
          <a:stretch/>
        </p:blipFill>
        <p:spPr>
          <a:xfrm>
            <a:off x="1676520" y="4041720"/>
            <a:ext cx="7546680" cy="2578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Rich\Documents\eslkidsworld.com\clip art\Food &amp; Drink\Fruits (Pi - Z)\Strawberries 11.wmf"/>
          <p:cNvPicPr/>
          <p:nvPr/>
        </p:nvPicPr>
        <p:blipFill>
          <a:blip r:embed="rId4"/>
          <a:stretch/>
        </p:blipFill>
        <p:spPr>
          <a:xfrm>
            <a:off x="3868560" y="1560600"/>
            <a:ext cx="32054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4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9" descr=""/>
          <p:cNvPicPr/>
          <p:nvPr/>
        </p:nvPicPr>
        <p:blipFill>
          <a:blip r:embed="rId3"/>
          <a:stretch/>
        </p:blipFill>
        <p:spPr>
          <a:xfrm>
            <a:off x="1341360" y="4041720"/>
            <a:ext cx="8253360" cy="257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Rich\Documents\eslkidsworld.com\clip art\Food &amp; Drink\Fruits (J - Pe)\Kiwis.wmf"/>
          <p:cNvPicPr/>
          <p:nvPr/>
        </p:nvPicPr>
        <p:blipFill>
          <a:blip r:embed="rId4"/>
          <a:stretch/>
        </p:blipFill>
        <p:spPr>
          <a:xfrm>
            <a:off x="3475080" y="1606680"/>
            <a:ext cx="3913200" cy="28224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4290840" y="512136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C:\Users\Rich\Documents\eslkidsworld.com\clip art\Kids' Stuff\Images (Part 03)\Boy Standing 30.wmf"/>
          <p:cNvPicPr/>
          <p:nvPr/>
        </p:nvPicPr>
        <p:blipFill>
          <a:blip r:embed="rId1"/>
          <a:stretch/>
        </p:blipFill>
        <p:spPr>
          <a:xfrm>
            <a:off x="192240" y="685800"/>
            <a:ext cx="1680840" cy="4592520"/>
          </a:xfrm>
          <a:prstGeom prst="rect">
            <a:avLst/>
          </a:prstGeom>
          <a:ln w="0">
            <a:noFill/>
          </a:ln>
        </p:spPr>
      </p:pic>
      <p:pic>
        <p:nvPicPr>
          <p:cNvPr id="79" name="Oval Callout 7" descr=""/>
          <p:cNvPicPr/>
          <p:nvPr/>
        </p:nvPicPr>
        <p:blipFill>
          <a:blip r:embed="rId2"/>
          <a:stretch/>
        </p:blipFill>
        <p:spPr>
          <a:xfrm>
            <a:off x="1243080" y="201600"/>
            <a:ext cx="7602480" cy="168768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9" descr=""/>
          <p:cNvPicPr/>
          <p:nvPr/>
        </p:nvPicPr>
        <p:blipFill>
          <a:blip r:embed="rId3"/>
          <a:stretch/>
        </p:blipFill>
        <p:spPr>
          <a:xfrm>
            <a:off x="1932120" y="4041720"/>
            <a:ext cx="7218360" cy="2578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Rich\Documents\eslkidsworld.com\clip art\Food &amp; Drink\Fruits (J - Pe)\Lemon 01.wmf"/>
          <p:cNvPicPr/>
          <p:nvPr/>
        </p:nvPicPr>
        <p:blipFill>
          <a:blip r:embed="rId4"/>
          <a:stretch/>
        </p:blipFill>
        <p:spPr>
          <a:xfrm>
            <a:off x="3454560" y="1601640"/>
            <a:ext cx="36288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9" descr=""/>
          <p:cNvPicPr/>
          <p:nvPr/>
        </p:nvPicPr>
        <p:blipFill>
          <a:blip r:embed="rId1"/>
          <a:stretch/>
        </p:blipFill>
        <p:spPr>
          <a:xfrm>
            <a:off x="2554200" y="4041720"/>
            <a:ext cx="6504120" cy="2578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Rich\Documents\eslkidsworld.com\clip art\Kids' Stuff\Images (Part 07)\Girl Standing 30.wmf"/>
          <p:cNvPicPr/>
          <p:nvPr/>
        </p:nvPicPr>
        <p:blipFill>
          <a:blip r:embed="rId2"/>
          <a:stretch/>
        </p:blipFill>
        <p:spPr>
          <a:xfrm>
            <a:off x="312840" y="795240"/>
            <a:ext cx="1458720" cy="4399200"/>
          </a:xfrm>
          <a:prstGeom prst="rect">
            <a:avLst/>
          </a:prstGeom>
          <a:ln w="0">
            <a:noFill/>
          </a:ln>
        </p:spPr>
      </p:pic>
      <p:pic>
        <p:nvPicPr>
          <p:cNvPr id="84" name="Oval Callout 7" descr=""/>
          <p:cNvPicPr/>
          <p:nvPr/>
        </p:nvPicPr>
        <p:blipFill>
          <a:blip r:embed="rId3"/>
          <a:stretch/>
        </p:blipFill>
        <p:spPr>
          <a:xfrm>
            <a:off x="1133640" y="201600"/>
            <a:ext cx="7711920" cy="1919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Rich\Documents\eslkidsworld.com\clip art\Food &amp; Drink\Fruits (J - Pe)\Lime 07.wmf"/>
          <p:cNvPicPr/>
          <p:nvPr/>
        </p:nvPicPr>
        <p:blipFill>
          <a:blip r:embed="rId4"/>
          <a:stretch/>
        </p:blipFill>
        <p:spPr>
          <a:xfrm>
            <a:off x="3730680" y="1638360"/>
            <a:ext cx="4084560" cy="2489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0"/>
          <p:cNvSpPr/>
          <p:nvPr/>
        </p:nvSpPr>
        <p:spPr>
          <a:xfrm>
            <a:off x="5522760" y="5145120"/>
            <a:ext cx="28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9:14:56Z</dcterms:created>
  <dc:creator>r.eash</dc:creator>
  <dc:description/>
  <dc:language>en-US</dc:language>
  <cp:lastModifiedBy>peter burrows</cp:lastModifiedBy>
  <dcterms:modified xsi:type="dcterms:W3CDTF">2017-04-26T04:24:04Z</dcterms:modified>
  <cp:revision>264</cp:revision>
  <dc:subject/>
  <dc:title>Slide 1</dc:title>
</cp:coreProperties>
</file>